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375D-C321-4DFA-B132-4B855DCB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102-ADD8-4EA0-ABC7-F3C51F47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4DE-1710-4693-ADB6-59FD8DD2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1C1F-7B42-4404-9557-B28308F7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DFF7-601C-4CB0-92E6-47B4E103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3222-1A01-4ADF-8160-D43A013F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7150-49D5-4F97-8092-026A69A0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418F-0831-4170-A053-7B94FBA9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050-56B0-4219-BE65-CEEB29C3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3481-E563-4272-9910-59D56703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51E-634A-48CC-93EF-54F494AC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D1C3-21DD-4648-BD57-9260B330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FEDF-0836-4F7E-821F-CFD936703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6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7 de febrero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9067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2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ónde compras materiales escola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the following expressions in a sentence;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solo puedes usar “yo” 1 ve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udiar mu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apu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tar a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car no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Primera conjug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llama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primera conjug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uando los verbos que terminan en </a:t>
            </a: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–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son conjugados en el presen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The First Conjugation is when verbs that end in –AR are conjugated in the present ten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00cc"/>
                </a:solidFill>
                <a:uFillTx/>
                <a:latin typeface="Arial"/>
              </a:rPr>
              <a:t>¡El 90% de todos los verbos en español terminan en –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90% of all Spanish verbs end in –AR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se conjugan los verbos en el presente, se escriben los pronombres en orden y se remplaza </a:t>
            </a: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–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la siguiente 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When conjugating verbs in the present tense, you write the Spanish Subject Pronouns in order and you replace the –AR in the following form: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–</a:t>
            </a: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7800" y="411480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7080" y="45259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9880" y="490680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Él-Ella-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528804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680" y="5745240"/>
            <a:ext cx="30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Ellos-Ellas-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7800" y="4114800"/>
            <a:ext cx="6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-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67000" y="452592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-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7600" y="4906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4840" y="5334120"/>
            <a:ext cx="151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-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6120" y="571500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-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100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mpl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conjugar un verbo, se mantiene la raíz del verbo y se remplaza la termin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To conjugate a verb, you keep the root of the verb and replace the en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BL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4114800"/>
            <a:ext cx="685800" cy="6094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4114800"/>
            <a:ext cx="609480" cy="6094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648320"/>
            <a:ext cx="1143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4648320"/>
            <a:ext cx="990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905120" y="4647960"/>
            <a:ext cx="0" cy="6858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019920" y="4647960"/>
            <a:ext cx="0" cy="6858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895480" y="3581280"/>
            <a:ext cx="457200" cy="5335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858000" y="3581280"/>
            <a:ext cx="457200" cy="5335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6480" y="3276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TERMIN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0" i="1" lang="es-ES_tradnl" sz="1200" spc="-1" strike="noStrike">
                <a:solidFill>
                  <a:srgbClr val="008000"/>
                </a:solidFill>
                <a:latin typeface="Arial"/>
              </a:rPr>
              <a:t>(END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6400" y="5318280"/>
            <a:ext cx="72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RA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808080"/>
                </a:solidFill>
                <a:latin typeface="Arial"/>
              </a:rPr>
              <a:t>(RO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80400" y="324468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TERMIN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0" i="1" lang="es-ES_tradnl" sz="1200" spc="-1" strike="noStrike">
                <a:solidFill>
                  <a:srgbClr val="008000"/>
                </a:solidFill>
                <a:latin typeface="Arial"/>
              </a:rPr>
              <a:t>(END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76120" y="5334120"/>
            <a:ext cx="72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RA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808080"/>
                </a:solidFill>
                <a:latin typeface="Arial"/>
              </a:rPr>
              <a:t>(RO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verb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ABLA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 conjuga de la siguiente form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4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abla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speak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2135160" y="24685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34800" y="32004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57280" y="388620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-Ella-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472428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1520" y="5440320"/>
            <a:ext cx="30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-Ellas-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5360" y="251460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Ha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9360" y="25146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5360" y="320040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Ha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40120" y="3200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5360" y="396252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Ha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40120" y="3992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9040" y="467820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Ha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64160" y="467820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9040" y="528804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Ha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63800" y="52880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verb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ANA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 conjuga de la siguiente form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4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ana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win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2135160" y="24685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4800" y="32004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57280" y="388620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-Ella-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72428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4160" y="5440320"/>
            <a:ext cx="30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-Ellas-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7640" y="243828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89360" y="243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87000" y="32004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3200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87000" y="396252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40120" y="3962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10680" y="46782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64160" y="467820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10680" y="528804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3800" y="52880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actica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juga los verbos en el presen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981080"/>
          <a:ext cx="8229600" cy="4268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studia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study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mina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walk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1073160" y="26971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7760" y="335268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9000" y="396252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-Ella-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457200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181480"/>
            <a:ext cx="221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-E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7960" y="26668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2560" y="33066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5400" y="396252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-Ella-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68840" y="457200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518148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-E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 los siguientes verb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rar (to wa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r (to cou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ar (to thr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star (to ans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ilar (to d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5:36:31Z</dcterms:created>
  <dc:creator>Helen Zumaeta</dc:creator>
  <dc:description/>
  <dc:language>en-US</dc:language>
  <cp:lastModifiedBy>Helen Zumaeta</cp:lastModifiedBy>
  <dcterms:modified xsi:type="dcterms:W3CDTF">2012-02-17T17:14:47Z</dcterms:modified>
  <cp:revision>9</cp:revision>
  <dc:subject/>
  <dc:title>Me llamo ________ Clase 6NH La fecha es el 15 de febrero del 2012</dc:title>
</cp:coreProperties>
</file>